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9E0-1030-44D8-BC57-D97B114F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562-8A8C-4A7E-A87D-1B655D1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514-C87E-4B3F-A031-4140198A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815-8D5A-4677-ABF1-5F4A2B1C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77E-D3A4-4E1F-8A23-D8E90D1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9CB-BFC0-40A2-9470-4C1D684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E87-284F-437C-9753-7726B6F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244-E2C6-45AE-8A11-64D853D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7C7-B7DC-43A0-BB76-0BA02A0E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4B2-CBC2-405D-817F-94E0E2F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F53-B0A9-45E1-9879-DCCEE60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4A1-BE95-456D-BFFF-30D28EA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445-FD71-40FC-BE38-28C6A036B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9040" y="1447920"/>
            <a:ext cx="67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rend Tes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457200" y="533520"/>
            <a:ext cx="8077320" cy="586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6095880"/>
            <a:ext cx="3962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586728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3083"/>
          <a:stretch/>
        </p:blipFill>
        <p:spPr>
          <a:xfrm>
            <a:off x="457200" y="45720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457200" y="533520"/>
            <a:ext cx="807732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67480" r="0" b="22894"/>
          <a:stretch/>
        </p:blipFill>
        <p:spPr>
          <a:xfrm>
            <a:off x="457200" y="4419720"/>
            <a:ext cx="8077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533520" y="380880"/>
            <a:ext cx="80769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77119" r="0" b="7235"/>
          <a:stretch/>
        </p:blipFill>
        <p:spPr>
          <a:xfrm>
            <a:off x="533520" y="3886200"/>
            <a:ext cx="807696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4572000"/>
            <a:ext cx="3962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343400"/>
            <a:ext cx="1676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6026"/>
          <a:stretch/>
        </p:blipFill>
        <p:spPr>
          <a:xfrm>
            <a:off x="838080" y="12193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9144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285"/>
          <a:stretch/>
        </p:blipFill>
        <p:spPr>
          <a:xfrm>
            <a:off x="609480" y="30492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914400" y="121932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685800" y="4572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9907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5335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862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838080" y="533520"/>
            <a:ext cx="762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5536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6584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10666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11"/>
          <a:stretch/>
        </p:blipFill>
        <p:spPr>
          <a:xfrm>
            <a:off x="762120" y="685800"/>
            <a:ext cx="784836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2040" y="49150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fferent scoring system (2, 1, 0)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22480" y="55245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or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3:07:18Z</dcterms:modified>
  <cp:revision>217</cp:revision>
  <dc:subject/>
  <dc:title>Slide 1</dc:title>
</cp:coreProperties>
</file>